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6E3-85A9-47B1-934E-5FCD42A6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FDC2-4AB8-4C21-AF89-6393FDB3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999-ADD2-4A2A-9BFB-E024A967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BD4-DC91-4118-AAF4-3711D22DF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CC5-37B9-4012-857A-BA4FC5F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3125-B6E3-477E-9F69-CF672261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2E3-6B50-4CEF-BE6B-FE23E4D5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22AA-E61E-4366-A6CE-969E66DB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0AB-820B-42FF-A588-ABE827DA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123-2B37-4014-9BA1-BD82C157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1BBD-B106-49CC-958E-A1DA0EA8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758-580A-4CD3-960F-4C61D44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F1E2-7526-4DCF-8390-2D1E1EBD1FE0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learning.cca.gov.tw/" TargetMode="External"/><Relationship Id="rId2" Type="http://schemas.openxmlformats.org/officeDocument/2006/relationships/hyperlink" Target="http://learning.cca.gov.tw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l.evta.gov.tw/" TargetMode="External"/><Relationship Id="rId2" Type="http://schemas.openxmlformats.org/officeDocument/2006/relationships/hyperlink" Target="http://www.vtu.nat.gov.tw/index.do?act=indexData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學習網站探究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1915920"/>
            <a:ext cx="76723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文建會網路學院</a:t>
            </a:r>
            <a:r>
              <a:rPr b="1" lang="en-US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V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04a7b"/>
                </a:solidFill>
                <a:latin typeface="標楷體"/>
                <a:ea typeface="標楷體"/>
              </a:rPr>
              <a:t>職業訓練數位學習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17375e"/>
                </a:solidFill>
                <a:latin typeface="標楷體"/>
                <a:ea typeface="標楷體"/>
              </a:rPr>
              <a:t>學生：謝毓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17375e"/>
                </a:solidFill>
                <a:latin typeface="標楷體"/>
                <a:ea typeface="標楷體"/>
              </a:rPr>
              <a:t>指導教師：鄒景平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1" descr=""/>
          <p:cNvPicPr/>
          <p:nvPr/>
        </p:nvPicPr>
        <p:blipFill>
          <a:blip r:embed="rId1"/>
          <a:stretch/>
        </p:blipFill>
        <p:spPr>
          <a:xfrm>
            <a:off x="0" y="1917720"/>
            <a:ext cx="9144000" cy="4917960"/>
          </a:xfrm>
          <a:prstGeom prst="rect">
            <a:avLst/>
          </a:prstGeom>
          <a:ln w="0">
            <a:noFill/>
          </a:ln>
        </p:spPr>
      </p:pic>
      <p:pic>
        <p:nvPicPr>
          <p:cNvPr id="61" name="圖片 2" descr=""/>
          <p:cNvPicPr/>
          <p:nvPr/>
        </p:nvPicPr>
        <p:blipFill>
          <a:blip r:embed="rId2"/>
          <a:stretch/>
        </p:blipFill>
        <p:spPr>
          <a:xfrm>
            <a:off x="14400" y="1427040"/>
            <a:ext cx="3057480" cy="514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首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0" y="1481040"/>
            <a:ext cx="9144000" cy="4789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會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圖片 1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897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網路大學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-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會員加入成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3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二者之比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447840"/>
          <a:ext cx="8229600" cy="6410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文建會網路學院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職業訓練數位學習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建站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促進藝文活動推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促進就業職能訓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服務對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般大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一般大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課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藝文活動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職業訓練類，種類多元，包羅萬象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資訊類、電子類、商業管理類、觀光餐飲類、家事類等較專業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也有職訓混成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適合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想學習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有台灣飲食文化介紹、時尚衣著課程等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有軟體的學習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用非常好色做信紙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如照顧員類，有急救的課程設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可改進之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若課程能有適合小孩或大人一同學習的會更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大部分都是只給大人觀看學習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因為是職訓的課程，若有一些護理類會更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461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缺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台灣的飲食文化，和台灣建築物，美術史等本土介紹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還不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的課程內容很冗長，若能縮短時間或提示重點會較好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課程種類很多，符合職場求職需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但我覺得可以再增加一些日常生活相關的課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有課後問卷設計還不錯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文建會網路學院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簡介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155736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網址：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learning.cca.gov.tw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服務對象：普羅大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對於美學生活藝文有興趣的民眾皆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圖片 1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002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文建會網路學院網站首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圖片 1" descr=""/>
          <p:cNvPicPr/>
          <p:nvPr/>
        </p:nvPicPr>
        <p:blipFill>
          <a:blip r:embed="rId1"/>
          <a:stretch/>
        </p:blipFill>
        <p:spPr>
          <a:xfrm>
            <a:off x="0" y="94608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網站會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圖片 1" descr=""/>
          <p:cNvPicPr/>
          <p:nvPr/>
        </p:nvPicPr>
        <p:blipFill>
          <a:blip r:embed="rId1"/>
          <a:stretch/>
        </p:blipFill>
        <p:spPr>
          <a:xfrm>
            <a:off x="-1440" y="11970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加入網站會員成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圖片 1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972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登入帳號後，即可選用會員可用之網站功能或線上參與觀看各類課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簡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網址：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l.evta.gov.tw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tu.nat.gov.tw/index.do?act=index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Calibri"/>
              </a:rPr>
              <a:t>服務對象：有求職需求，希望在進入職場前，習得或是更精進某項專業技能的人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圖片 1" descr=""/>
          <p:cNvPicPr/>
          <p:nvPr/>
        </p:nvPicPr>
        <p:blipFill>
          <a:blip r:embed="rId1"/>
          <a:stretch/>
        </p:blipFill>
        <p:spPr>
          <a:xfrm>
            <a:off x="344520" y="1557360"/>
            <a:ext cx="8077320" cy="5057640"/>
          </a:xfrm>
          <a:prstGeom prst="rect">
            <a:avLst/>
          </a:prstGeom>
          <a:ln w="0">
            <a:noFill/>
          </a:ln>
        </p:spPr>
      </p:pic>
      <p:pic>
        <p:nvPicPr>
          <p:cNvPr id="56" name="圖片 2" descr=""/>
          <p:cNvPicPr/>
          <p:nvPr/>
        </p:nvPicPr>
        <p:blipFill>
          <a:blip r:embed="rId2"/>
          <a:stretch/>
        </p:blipFill>
        <p:spPr>
          <a:xfrm>
            <a:off x="344520" y="1071720"/>
            <a:ext cx="3905280" cy="485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首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圖片 2" descr=""/>
          <p:cNvPicPr/>
          <p:nvPr/>
        </p:nvPicPr>
        <p:blipFill>
          <a:blip r:embed="rId1"/>
          <a:stretch/>
        </p:blipFill>
        <p:spPr>
          <a:xfrm>
            <a:off x="306360" y="1449360"/>
            <a:ext cx="8491680" cy="4500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職業訓練數位學習網簡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16:14:11Z</dcterms:created>
  <dc:creator>user</dc:creator>
  <dc:description/>
  <dc:language>en-US</dc:language>
  <cp:lastModifiedBy>user</cp:lastModifiedBy>
  <dcterms:modified xsi:type="dcterms:W3CDTF">2011-01-21T14:19:17Z</dcterms:modified>
  <cp:revision>35</cp:revision>
  <dc:subject/>
  <dc:title>PowerPoint 簡報</dc:title>
</cp:coreProperties>
</file>